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B1A-EF0F-4DF7-9C5E-CBE7647A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68F-E445-475A-9DE2-E9406289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24CEA-3088-4CF8-92AA-7661E901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669CC-A87B-4C58-89B9-1F80BCF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C472D-052E-423F-B14B-1C1CB8F9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B46AE-3F35-4221-A171-6ABA0339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0175F-0B97-4B8E-8405-E1F76439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1FBD2-A8E5-4555-BD49-1A81968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CFCC9-98EE-499B-9580-80891F6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B0293-940A-4C0C-94BC-C9534572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A9D7E-3D70-4289-A43D-0BEF9BD3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82450-47AB-44AC-9C47-7C505B82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961-7422-4C02-8D37-A79970EE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F89C-599B-4F4E-BC48-AFF6D36F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31E08-DC92-435A-AC9C-57AC0B17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9F24D-2F7E-4003-B36D-7D3DCF14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8228E-BA1E-4153-9D18-CAA17D3E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B5BD9-DDF7-4039-B11B-C7C4CF9B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02022-8920-4CC7-9423-345D69A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F5636-D20C-4869-97A0-F48CB72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845D5-390B-42ED-8D2F-F6305FA2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68BF7-981E-442A-A7A1-DB638663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D853A-F437-401C-AFC3-0D1735CC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1FF-D0CE-4C9B-86E1-1D14AC6C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13E32-A676-4731-BC2D-86E070B4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08FBA-5681-43FF-B09D-CF49F23C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1A5E-6B8A-4229-AC5A-2F2B2304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E67E-4C07-4877-9ACA-5D093950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BF2D7-6296-4D53-9787-78151CC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4B6EE-D4AB-48C5-B3CA-E191DBDD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EEADD-022A-4783-A537-5DD03ED9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0E630-8A70-42D2-9A51-1B75539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38207-48B3-46B0-9131-12FACD96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F80B2-EA74-4EA9-A041-6B67C17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7665-003B-4DC6-A6DB-F4296C5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D21A9-D694-4D22-AE3B-31F776F1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6B26C-E4E9-4688-A6F6-71369287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A6CCA-0DC9-4DD7-A828-93344F0A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2FA16-0119-4CC1-BEF1-1E6A7672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4B3DC-3197-4ED3-8439-645572B5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B9498-CD08-41DD-9D52-6DEE3DF1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6BC7F-6058-44C0-AB2B-3624831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463B4-19AE-4660-A341-C0D90DC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1DC55-13AC-4219-ABF2-A9D662A4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6F8B3-76D0-403C-AE7F-FF5E589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1FC4-2A73-4164-ADFA-04A50B3B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992BF-5B05-4A14-8830-2318B43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BBB4E-136B-4CFD-AD30-9500642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6E36E-9C83-4351-81CB-5FB49C96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9E243-991F-4D03-A36C-EC2C1F91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7173F-9601-4E1B-B454-A86491C2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E5E08-8D80-4449-A67F-7DB0E7AD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2DDA0-B5B4-4871-BC61-C52B6151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6F171-39C5-4243-B28C-43098814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CA63B-82FB-41D1-89CB-6A4BD22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FB899-9960-425D-95B5-61B7F582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3958-B100-4169-9978-5822B54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8AB6F-3E99-4CF4-9A67-553572FC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90288-E528-4512-8D91-5019226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83D32-96C6-4DB2-8BDC-294C281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AC8CD-3484-4616-8ACA-47E7DDD8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8CDE8-D0AD-466E-BC7C-BE433F3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63606-3332-48E0-A130-B32EF1E1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D4B80-E4A6-4905-9EF8-EDF563B1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2D416-6047-4FEF-8062-11822A64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308BA-552B-41BE-90B9-76797416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60D14-A2A6-44CF-9CC5-7D27D5C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07F-82C7-418D-847D-CE9C5EEF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6AFE9-2716-4B5A-862C-6215CDB4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67707-5AF0-4671-83A0-42A8C04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3B0FF-C64B-4EAB-819F-EC454994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8A9F8-2BEA-4CB3-9B62-992FA696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A5549-11CA-4E99-A585-5DA51060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CA38D-1F31-4669-B23E-89CAED2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EF9C1-4FB4-4DC5-8536-9A41ACB2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CC4D6-3B35-41DF-A794-ADEEA688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5B5C1-4F72-4793-BCEF-9DD6587F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6440B-AEE8-4728-841C-8C0E72A3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219-98B2-4ACE-B999-DACAB2D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D6444-20FC-4601-A068-71364AC9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96B43-BD44-483F-BE09-CAAB810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AEFC5-8683-45A8-A250-33BEA8BB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94FDE-4727-4D77-8BFC-E26EB916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6108E-A007-49F0-B3A1-F84AA11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08E30-468B-4116-81E6-E0A380B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A8145-8FBD-4A1C-B6E5-1C934E5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41240-6FC3-411F-ADF2-EB5935CB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60536-BB6F-49ED-B355-DAC6B8D3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483E3-2F06-46D3-B55E-1071B340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50F9-98C9-454D-94EE-D5732F90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C3FB3-9232-4534-9B65-64FE9BAE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DA118-781E-4DC6-AFAF-A6B99F46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3D760-78F1-4E52-B83C-5A31BDB0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DB10E-CB96-49F8-A5EB-3074753F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82A68-B6A6-4A3C-AD26-A10FAAA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7B65B-7F9A-41F2-814D-44C7FEB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219E9-97D1-42E0-9D64-6061B9D9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FA089-87D5-4DB3-966B-BB8D73EE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DDB4F-352E-4BC2-8E17-45A1ED7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3CE82-FAC7-42FA-BADD-61BC34FD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C7CE-72EF-4E96-B163-FF6C955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3E202-FDCC-423C-9D0B-8C890247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BA195-C497-42B2-8A41-8847B7AF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06287-C4AF-4A13-A2CF-0EA538E3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81529-E1CB-4896-9ED4-FFE465D8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C42F5-7900-44FD-8DE6-C04B41D3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B08F2-78F6-4CFB-9CCE-2F5CB6B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3D29F-800E-4712-9B8A-DEBA32F9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BABEE-434A-4B42-8505-BF5BD68E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09537-B4C9-433E-9A82-E7A086E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71A77-D8D4-49CD-BD6E-7BE4297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013-BB08-471B-A1B2-27E6DD2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F3A8-0238-46FD-990D-CD69D813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1A2AC-9587-4740-8E32-9AEB76A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FCBB8-35AA-4350-A1F9-6B3F3FE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C8291-A481-4006-8EA3-A4A06A2B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751AF-8E42-4CB0-9380-6C052A50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807FB-7F23-4395-9E50-DCBB4AB3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EE9A2-63C4-45CA-88D3-56F25B7B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19FE6-0C4F-4A0F-A78A-DB451DE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03410-4EE2-4FDD-8F98-C4937779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5F225-6BD5-434C-A552-35A7478A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33980-4028-4740-A85A-30C73750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9E50-CC9B-41AD-89BF-468E835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98B3A-3E54-4C97-B67A-4BA1EB2B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83C91-7A8E-4F45-9D42-E93BF925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90333-4B62-4DE4-A556-D8A50D4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9C9B0-36FB-4992-8C88-BFF88FC6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6CD9C-77AA-4566-9E1E-A3A0A8B3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4293E-DBD9-4325-910C-374648C3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090C9-3365-46C7-98B3-EB8528AA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A9CA0-598C-4CC5-B0F2-FAE41ED8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9D164-D3E9-4CC4-BCFA-E63B2546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50DA0-F22D-4915-ABA7-CE652B36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001-8684-43C6-9153-6E00D7E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8EDDD-6470-49E7-B4DF-395A560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47123-83B7-49D3-B045-EA5AC9F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1EB25-A042-476C-9170-9F9F55A2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C7064-581E-401F-905E-6708E1A4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6E5AE-7C9F-4B2E-840B-FFFAB68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65294-4B92-4424-A3D4-2A5E7DB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F066A-831A-4226-94BB-2ABA10F3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8CF77-4927-4740-B791-D6D552FD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9F678-747A-4E8D-8CEA-DE488F4F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E8823-B515-4186-A534-99405C43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9C72-7CC4-4C68-8FF5-52B52EB9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CBD98-8389-4C12-95C0-F0DB376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27093-6470-434A-AFBA-A556336A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B1FF2-47EE-4874-A35A-5E945E88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10EF3-777B-43F6-B778-816A3F09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48CE93-2E70-4CA7-A0A0-6B54009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DBC98-1F6C-457B-A4E4-B50601CE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6FCC3-7841-401B-80F3-3DF7D45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A1C8F6-FC66-4FD6-9FF8-6507197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874D20-C155-4699-9950-A8B5AF1A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C584D-3329-40B5-BDE7-71BE651F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158-10C2-4B03-BDB7-882FA310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3896C-7FA2-433B-A015-43AB8C41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4BC10-35F0-415E-B08B-4BAA9C05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828EB-9846-40EB-96F9-688C2AA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7171A-3D54-4511-8EFB-AE6396B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D5993-FA1B-4DCF-85DC-11D7FF5B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6AFDE-5513-427A-8C23-EC80BDE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F7F97-4C6E-48BF-98C4-56DE6FC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81224A-ECA7-4A85-A79C-2AC45DD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FD3F2-8822-4615-A76D-ED397B5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A1613-044E-46E9-BADB-52040B8F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5A41-D2B2-4076-B2C7-B0BEE558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ACEF5-B8C0-4D00-9F70-A8A3FD09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CEAF7C-F920-4DCB-908C-65BD2619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BAC0B7-A5AB-47C7-B0B1-6989C3A1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28375A-E0C5-4B03-8F06-0D8B6110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84CA51-AD16-47F5-A025-7A32E4B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FB4AF5-CBB4-44B7-8A42-5428262E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BF2E9-C1C3-4919-B9D0-BE53CFCA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AA7FBD-E973-40D7-98F1-20115FC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40D66-B365-4872-868C-EFB73B3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E4C72-FCB8-49A9-B967-E3BEEB7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FF2F-A778-4143-9614-9042C2EE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307D71-7731-4D07-B527-352A6BE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F6FF1E-CE44-4217-9886-CC10769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197C4D-86E2-477D-AE26-3BDB989D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6F56D-B5B4-4BD1-85DA-6C8C76FD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1C617-47D0-49FB-9A62-1230E36B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EC99-BCD7-4F66-90E6-C07EDBA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5BB3-90E5-4BA2-8A1F-69B20AB9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427B-BC1B-4435-AC17-8404DFB6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7B7-454F-497C-BE29-840AAD6F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307C-565F-4AA5-95B4-D3E14153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7301-9F9E-4CBF-919C-6FCA4F5F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9C08-2C07-4E92-8EF0-1340B61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A930-3729-4ECB-96BC-535BD812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A9A3-64A2-4348-BA3C-8E413219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B071-8916-4D67-8E15-45DF6DC6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9B59-8754-44E4-8428-CA7AC529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D795-C8C6-4F5A-8368-2D013D4A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BECA3-2A4C-40BB-8978-1532963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67F96-1FAB-4ABC-809F-566AB278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C3F-B29F-4A40-A173-371B5BF4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7FB1-2607-4EA0-81B4-9495B34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F522-D369-4B93-874C-17860E71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D1D0-B352-4729-AEF3-C924D145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BDDC-A53A-4E52-BEDE-155CEDB9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9575-E92F-4587-AEA4-5C5A323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1864-6A09-432B-ADF2-7C85C72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DF04-9B15-42D8-AE29-92FCEE0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C0F7-4F58-4731-BDD3-9A8D028B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5FBF-4B8F-47FC-B3A6-9447B142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7991-7549-43FD-B74C-3B46D20A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9BD-154D-4481-B0D7-7AA78007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86B1-4604-4420-B409-FC6AABF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3022-EA57-4EEF-B67E-A3472DB6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819C-DA44-4C13-B747-995851D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AA93-98A9-4B23-89AE-5BD96C20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12B5C-52E7-497C-8C5B-5713B623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A44B-8F93-43F1-90EC-E342E5A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6B3BF-5A41-4708-8F55-EAB9057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30B0-4F9F-495D-B912-A02E29D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ABCF-2988-499D-ABA6-22D83E7E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9697D-C593-453A-B5B5-BB9109FB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317-4082-4E47-816E-FF1DB669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5280-2F24-4CCD-88CA-4B5FCFD1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FBA6-2B61-4A7E-9B2F-6FC87BB7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3ADCE-4F1B-4790-BA86-5C597349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5313-6F0B-424B-9FEF-58552B10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D52E1-E6D9-4BDD-AA92-6BB04F2B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4D19D-32C1-4AAC-BFE6-145F727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4952-909A-47FB-ADE9-582656E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3631-937F-4487-8990-69F27715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4AAA-5DE0-49E1-8BEF-B7441A7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D16A7-693E-4038-8225-5467C1D1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AD5-BF5C-435E-AC43-A233330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6D46-F2FA-4F2F-9C3E-A2AD9617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9014A-8070-48AC-8877-2299CDB2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C2521-7DB3-487A-8593-E13B9B6E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5133F-591E-495C-8790-ADF46EDA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82C2-B839-4054-9AAE-748BE67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F3E5-3504-44CD-8BF0-165B3D1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EED3-BAC3-48B9-AD71-70933931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FD33C-4581-496F-82AA-9EDCC7B0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29CB-7D4A-4F74-9622-E174FBB3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05DD3-88A5-4897-8B69-32E5799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26A-6A76-4038-A130-E56AC89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F15A-1604-4B7D-B673-63412175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7F7E-8546-437C-9356-9F0F398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73CC-D6A2-477F-9702-E4441804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8BD7B-FE62-491F-BB82-6464D9B2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152B4-EEA2-4818-B7A5-A3FE618E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CE40C-7EF6-4883-B1CC-9E0319C3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FFBE7-731D-4444-97B4-F5C1B31B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57E02-1B22-4001-91BF-6708A78F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9D14-858D-458D-B63F-5913C9B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6153E-2BDE-45F5-B1E2-108D1DC8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AC0-3F1A-4671-9496-1C550D69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D0BF2-9199-46DE-A42A-EDE6417D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240C5-E63C-4123-A93D-755B3CC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0856-F666-4B6E-A17A-59312D90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CE0BE-5CD0-43BB-8679-C34FA53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AFCE0-036F-41AB-B04A-45D64C9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0678A-0F0C-4FB7-A13A-9C820BB5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AD380-B0B9-42B7-A635-90A97128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2E1BD-A96D-4CAE-83C4-292BADCF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29310-53E8-477D-A247-04F5261A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2B709-3A2C-4717-9E3A-D49B3E9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1F64-B318-4184-82E7-173A9F14B9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50C8-4932-4FE8-B89A-F4D7FF541D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27B1-111D-44D6-8824-5C9A41DEB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64C0-830E-4961-BF04-DC31863A72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906E-B68C-41EE-BDF0-E57D76459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928-0114-4557-A037-0B740A5D1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9E4-4CF6-4DAA-84BA-8C40B7DEB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4DE0-3D78-4BB2-9305-94F9CD39DD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27DF-D58C-46B2-823D-1E66118D5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AAD9-4586-480E-9A88-C27ED8543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B596-CFDB-406B-8683-F3D493FF40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CD79-79A9-4A94-B049-6D483230E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440-4FD1-470F-9AAC-11C112305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8E37-C5B2-4D82-916B-BF4490910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EDC-C71E-4481-9F31-94E93B101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08BB-9225-4E23-BDFC-C3294937A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F89-E8A2-4DCB-95FD-8E7CB6A0E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4D5-D0AA-4D23-B997-571B90DA9C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0308-3DB0-4460-A689-319770B391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22F-47FC-4E60-86B1-DF42454A4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63A-2EA9-4418-96E1-09635A240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F67C-9247-4B87-8C18-5D6EFBC90E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3A2-2C68-472E-9053-4992C16EE4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C9E-94F0-41B7-92C2-5387BE2E0D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5401-FE77-465D-B5CA-A8743F5E3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686-8A66-4969-A127-068F33391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7FCE-73FA-45B0-AEA1-864614E3A9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49B-F444-4C7E-9163-DC87C8CEB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912A-933A-49F4-9EC3-22ACC17A3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1501-EEBF-495A-B7BF-9A523EDF3C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B89C-C67D-43E8-AA2F-EAE47B3AB9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5961-F185-4356-80B6-23A85E4421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942-A3E7-4B89-B7C4-56EA712CB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AC3A-5DC7-44A0-9F5C-CB2D3D852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B8EA-0336-49D5-8A52-C9430EF50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707-A098-421F-A3D0-D7D37EB3E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43FE-B272-443C-A7B4-1DFC917B95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3C94-83DF-49E8-A4A4-AAAE2F559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76F3-05AF-4938-8AA9-C53A210ECD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8AF5-3211-41DF-9C43-8A9089E5CE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2457-E289-4058-90B3-C8C8A99C5C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238480" y="3110040"/>
            <a:ext cx="466704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485640" y="1219320"/>
            <a:ext cx="8172720" cy="4419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2570040" y="220500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720800" y="26719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9" descr=""/>
          <p:cNvPicPr/>
          <p:nvPr/>
        </p:nvPicPr>
        <p:blipFill>
          <a:blip r:embed="rId4"/>
          <a:stretch/>
        </p:blipFill>
        <p:spPr>
          <a:xfrm>
            <a:off x="2584440" y="276696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150" descr=""/>
          <p:cNvPicPr/>
          <p:nvPr/>
        </p:nvPicPr>
        <p:blipFill>
          <a:blip r:embed="rId5"/>
          <a:stretch/>
        </p:blipFill>
        <p:spPr>
          <a:xfrm>
            <a:off x="2570040" y="332748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6151" descr=""/>
          <p:cNvPicPr/>
          <p:nvPr/>
        </p:nvPicPr>
        <p:blipFill>
          <a:blip r:embed="rId6"/>
          <a:stretch/>
        </p:blipFill>
        <p:spPr>
          <a:xfrm>
            <a:off x="6357960" y="220500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5479920" y="267192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153" descr=""/>
          <p:cNvPicPr/>
          <p:nvPr/>
        </p:nvPicPr>
        <p:blipFill>
          <a:blip r:embed="rId8"/>
          <a:stretch/>
        </p:blipFill>
        <p:spPr>
          <a:xfrm>
            <a:off x="6357960" y="276696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154" descr=""/>
          <p:cNvPicPr/>
          <p:nvPr/>
        </p:nvPicPr>
        <p:blipFill>
          <a:blip r:embed="rId9"/>
          <a:stretch/>
        </p:blipFill>
        <p:spPr>
          <a:xfrm>
            <a:off x="6357960" y="332748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749600" y="4494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3765600" y="4494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5781600" y="4494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158320" y="4494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1749600" y="4883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3765600" y="4883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5881680" y="4883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8302680" y="4883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8"/>
          <a:stretch/>
        </p:blipFill>
        <p:spPr>
          <a:xfrm>
            <a:off x="1749600" y="530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9"/>
          <a:stretch/>
        </p:blipFill>
        <p:spPr>
          <a:xfrm>
            <a:off x="3765600" y="530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0"/>
          <a:stretch/>
        </p:blipFill>
        <p:spPr>
          <a:xfrm>
            <a:off x="5781600" y="530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21"/>
          <a:stretch/>
        </p:blipFill>
        <p:spPr>
          <a:xfrm>
            <a:off x="8158320" y="530064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7169" descr=""/>
          <p:cNvPicPr/>
          <p:nvPr/>
        </p:nvPicPr>
        <p:blipFill>
          <a:blip r:embed="rId1"/>
          <a:stretch/>
        </p:blipFill>
        <p:spPr>
          <a:xfrm>
            <a:off x="804960" y="1257480"/>
            <a:ext cx="7534080" cy="43434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2"/>
          <a:stretch/>
        </p:blipFill>
        <p:spPr>
          <a:xfrm>
            <a:off x="487368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3"/>
          <a:stretch/>
        </p:blipFill>
        <p:spPr>
          <a:xfrm>
            <a:off x="6227640" y="1743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4"/>
          <a:stretch/>
        </p:blipFill>
        <p:spPr>
          <a:xfrm>
            <a:off x="749448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5"/>
          <a:stretch/>
        </p:blipFill>
        <p:spPr>
          <a:xfrm>
            <a:off x="3506760" y="26798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6"/>
          <a:stretch/>
        </p:blipFill>
        <p:spPr>
          <a:xfrm>
            <a:off x="4888080" y="2679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7"/>
          <a:stretch/>
        </p:blipFill>
        <p:spPr>
          <a:xfrm>
            <a:off x="6242040" y="26938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7176" descr=""/>
          <p:cNvPicPr/>
          <p:nvPr/>
        </p:nvPicPr>
        <p:blipFill>
          <a:blip r:embed="rId8"/>
          <a:stretch/>
        </p:blipFill>
        <p:spPr>
          <a:xfrm>
            <a:off x="1590840" y="5127480"/>
            <a:ext cx="1877760" cy="4273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7177" descr=""/>
          <p:cNvPicPr/>
          <p:nvPr/>
        </p:nvPicPr>
        <p:blipFill>
          <a:blip r:embed="rId9"/>
          <a:stretch/>
        </p:blipFill>
        <p:spPr>
          <a:xfrm>
            <a:off x="5853240" y="5141880"/>
            <a:ext cx="18777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图片 8193" descr=""/>
          <p:cNvPicPr/>
          <p:nvPr/>
        </p:nvPicPr>
        <p:blipFill>
          <a:blip r:embed="rId1"/>
          <a:stretch/>
        </p:blipFill>
        <p:spPr>
          <a:xfrm>
            <a:off x="814320" y="1595520"/>
            <a:ext cx="7515360" cy="366696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8194" descr=""/>
          <p:cNvPicPr/>
          <p:nvPr/>
        </p:nvPicPr>
        <p:blipFill>
          <a:blip r:embed="rId2"/>
          <a:stretch/>
        </p:blipFill>
        <p:spPr>
          <a:xfrm>
            <a:off x="1590840" y="4767120"/>
            <a:ext cx="1877760" cy="4273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3"/>
          <a:stretch/>
        </p:blipFill>
        <p:spPr>
          <a:xfrm>
            <a:off x="1692360" y="4302000"/>
            <a:ext cx="2519280" cy="31932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8196" descr=""/>
          <p:cNvPicPr/>
          <p:nvPr/>
        </p:nvPicPr>
        <p:blipFill>
          <a:blip r:embed="rId4"/>
          <a:stretch/>
        </p:blipFill>
        <p:spPr>
          <a:xfrm>
            <a:off x="5838840" y="476892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5"/>
          <a:stretch/>
        </p:blipFill>
        <p:spPr>
          <a:xfrm>
            <a:off x="5940360" y="4303800"/>
            <a:ext cx="2519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6:2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